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468-2D92-4CB5-A4FC-6E54B26E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20F-04A1-4E82-A253-1BCEF792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5E5FC-4108-47C2-8667-C92CB263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0E66A-6067-4F14-9FE5-2806F7C4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E2FE0-5E4E-4730-AB02-59E504D2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35AA3-992B-4465-B859-2B6E3D33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3525D-3BBE-4136-BE39-82302856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C8AE1-8314-40F5-85E1-9764A1D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DCC7D-7354-469A-BCBE-311FE490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4406D-A403-44BB-B64D-E87B2DA2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08D0B-472E-41E7-8644-3BFB64E4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1BA31-D017-464A-8BB7-2AE47E0F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5FE-8EDE-4AA9-B02F-5BDCCA7F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3DE44-DE8D-4535-9F42-25BABD26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BFFBD-BDC0-4724-9826-6D4D0525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12B3A-DF73-4F22-B676-0815FD91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CEF81-87B1-4C4E-840A-2768CB58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AA804-C482-4F37-BAC9-0063BE7E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6DC65-B9E0-4823-A79E-FBA19A48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D6CA2-AA02-4AE4-A588-102E4003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79F71-5A1D-4DD9-B2DE-DAF21608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6AECD-219E-4654-A7F7-35C7E97A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133C7-4402-47E3-AE92-F2EDB9B8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CB3-BACC-4D2C-96C7-336B9C0B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7381C-9250-48B5-AD00-50755D0C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A8817-5C87-4D5F-A057-52678A08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4BEBF-6E38-43D3-B1AB-F39F34F4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7BE97-6B99-483E-AB4D-F608BBF3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8259A-01CE-41A2-92A9-C6E390C5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59057-D2EE-4E12-A61C-061E4185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2A03C-7E50-4816-9C63-2A13AE09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32F8F-EB4A-44BF-9A14-098F4369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2A74D-A388-416A-B747-8041AE43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BB441-EB95-4D0B-A7C2-72FE13A5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0EC5-70E5-4894-9341-30BA4112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A02A0-62AB-4147-9EE0-8FDD993B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5710C-44B6-4B23-9A20-C50D836A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A63B4-9E97-4258-864D-2C7E6477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FA978-4EAB-4AE3-9B83-17234E1B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9F0B1-4380-4AE2-BD96-281DDE80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2F0A2-D1EB-4530-B6C5-2389DBC6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03C20-14D6-422C-93AE-7897313D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54426-B744-4F7A-BD00-292DD09C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DA4E9-F0A8-4B6C-9719-EE1B5D2B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CC4E6-72A2-41CD-8162-332BAD3B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428E-2751-45DD-B053-12D6E961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B1A57-8CF4-4DE4-870E-BB7682E7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4E149-63C6-45CF-BA3D-F299DB97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4F94C-D612-4687-B17E-98C291F0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4B63E-0F1D-4B79-A04F-5EC7EA2D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700DC-150C-42E1-8DF8-95035898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2592-056E-4552-A2C9-40A4FED0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7886-75F1-4325-9CB7-566C466A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3F1B-C8A8-44C5-8F57-EF8628E1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7DEF-9EDB-48D1-821B-B52F757E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BEC3-947F-446C-8897-22C28091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08C-E376-48B9-846C-D5C05E2F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7FED-C324-4E8C-B525-8115D526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7086-1F49-43B2-9EFB-FCFA4986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739D-5075-44C1-83D5-27A4D9AE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5494-2FE1-4444-99E6-D4270D8E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17FA-D3B5-40F3-A55C-C976B8D9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0910D-18F2-4FA0-A3BC-9CD80E01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5C5EF-A660-4D23-90B5-AC8810A4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2CD9-2B14-4F5C-831D-8B136CDF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3FA97-F74A-419A-A0D0-E9D273DF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CC382-EFE6-4281-9327-DCD168F0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5FA3-41A6-4DF6-BD31-163B4F51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305D-B786-497B-A1D7-0DFD86F9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D1D8-9BC8-47C1-8C6B-BA629498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DDB29-0DB0-4D7C-8113-C3E521EA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5A78B-7B28-443B-B074-44477213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5AA6-06CD-4A7A-BBF8-686FCEFA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4AD2-7F06-4ACB-B018-6483970E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558E-4785-46B6-85CA-9CC3B100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9015-84AA-4848-AE75-A4E1E0A3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B3F7E-B7E1-4B31-807A-05B94EC0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03C5B-50B4-4341-B267-38092275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ACF-DB49-47D5-A547-36DD2920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B84AA-07BE-4B9E-A84A-7D28B0A8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E323-E165-4C89-A03B-B68E287F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54AE7-BF3B-4580-B771-D3087A5F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CCAC3-81E3-4712-83E5-C42E61A4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C27B-EF61-4E31-A9B6-268EE360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9BF77-FBB4-4ABF-B759-2D892D80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69873-B3F1-4A5E-B56B-98569482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17488-9470-482F-B543-0CD66A49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40128-A166-4FE5-B5AA-EE9EB19E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E04C4-2A6D-4B10-835C-5D490940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76F-7DD7-44B9-AA81-24EA0700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75706-F50C-480D-BEA5-915D8C50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669EC-AFDD-4AEA-8F0F-B11F74DB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F0AFE-642C-49D3-868D-4C2FF8AF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B37FF-5E77-4EBF-9407-5997338B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A7C3B-C278-4EA0-9B3B-5DD0903F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BC7D5-ECE0-498B-8798-7C9CB1C6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24096-78ED-4B45-98BD-C2D33FAF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EE0F4-72D6-4280-B709-D2CF806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B8B17-56DB-4BC6-82FC-8ABBDE16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1B649-E27C-4008-9C94-3B21F6E4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09E-41C4-4CA7-8A3B-DC5F8AED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3D280-A564-4271-A59C-6CDBD7AB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17F18-C58B-423C-82E0-05179FCC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1200F-1EE4-44B8-B33F-4B1CA5EA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97772-3240-460D-9486-DAB92546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49779-B401-431B-86B8-82E87835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9FED6-B578-4856-9459-9251318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7BEC1-1DC4-46E4-8B22-2BDF19E4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126B1-30AA-487C-B401-9C65520F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130E-3E95-41B3-8EC9-B7F6758C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17B04-009D-47D8-9A30-5D7280ED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4E4-63D5-4304-926B-91CAD67B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0EFB6-130B-4B34-84D3-DB45A938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79C80-DC96-47F3-B32A-24C5D62F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76A2E-0C80-45B5-A1AB-276EE4DC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F6573-244E-4BB1-8181-884A73F3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97C96-8B3C-4F37-BB09-DD736F13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88186-7ED4-4EC8-B1B0-E055100E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D2972-7D9A-4501-A2D7-ADC9541E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B3E39-CCE6-4FC6-9CD6-5DF1412D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F13BC-802A-414D-B314-FA2B227E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9712A-55F8-4670-80EA-BA2CDD13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06D-94D0-41BA-A201-85215F16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4571D-5B8F-458D-8FF7-08EC6C1F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251CD-326F-4129-88B6-2054883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07E6E-4DA5-4903-A1DE-8C166ABE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74AF8-591C-44C0-A631-16582C66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91C3F-C63A-4E40-B4E3-E479B12D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BB1A9-512C-4C4F-B847-1C03D2A5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669E3-C976-4B3E-A11F-358990E8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B0C19-9FE2-4F2B-A4F0-DC9AF64D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31932-4A52-41B2-B809-DD91698F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FE15B-FB72-42BB-9D89-EE2478D8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C71-3EA7-4665-B043-8F972D62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46FA9-A94C-4502-AD2E-ACE7F5B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BE375-7BD0-4915-B0D5-D909AE89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2630E-B162-4048-9EF0-61349FA6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19683-AE7C-495C-BA51-00244ED7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CBF2B-5515-4C63-A145-285AAC70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BBB93-832B-4075-B7B9-3D338975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78B4D-A702-4DA8-9CD3-4A1A212A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03149-1B17-4423-BBBC-D1FF9FDE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C6385-22F2-40AA-8121-556C1C6A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67D38-4BB0-4CC8-8FAC-8194A05E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27AF-A974-4DFA-9063-A130729AFAB4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ACE6-97A2-4D0C-AAB7-7A3F52250D96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E73C-3F69-409C-9AEF-0C33C4440A2F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C0AC-E3CB-4DC3-9B59-A98738F456C8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9914-6CD1-4340-8D72-8D976D95441F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2"/>
          <a:srcRect l="6640" t="19633" r="19361" b="3517"/>
          <a:stretch/>
        </p:blipFill>
        <p:spPr>
          <a:xfrm>
            <a:off x="7667640" y="0"/>
            <a:ext cx="1476360" cy="1052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7BC4-A4E2-4DA7-9DE1-F2CD25631C4B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F238-8789-4174-A9E8-93AA48589323}" type="slidenum">
              <a:rPr b="0" lang="en-GB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19F8-498A-449D-8B17-4ABEF7388C0F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59C7-52FF-4FE8-B7E7-92408596BB81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1915-7AE2-4496-839E-C453ABDFBA91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C18C-907E-4723-9BD5-02FF4E328024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1B1B-3E53-4D7C-A3BD-822E12E45511}" type="slidenum">
              <a:rPr b="0" lang="en-GB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4"/>
          <p:cNvSpPr/>
          <p:nvPr/>
        </p:nvSpPr>
        <p:spPr>
          <a:xfrm>
            <a:off x="287280" y="981000"/>
            <a:ext cx="8569440" cy="1368360"/>
          </a:xfrm>
          <a:prstGeom prst="rect">
            <a:avLst/>
          </a:prstGeom>
          <a:gradFill rotWithShape="0">
            <a:gsLst>
              <a:gs pos="0">
                <a:srgbClr val="727ca3">
                  <a:alpha val="60000"/>
                </a:srgbClr>
              </a:gs>
              <a:gs pos="100000">
                <a:srgbClr val="727ca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Subtitle 2"/>
          <p:cNvSpPr/>
          <p:nvPr/>
        </p:nvSpPr>
        <p:spPr>
          <a:xfrm>
            <a:off x="287280" y="2349360"/>
            <a:ext cx="8569440" cy="53352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olul </a:t>
            </a:r>
            <a:r>
              <a:rPr b="0" lang="ro-RO" sz="2600" spc="-1" strike="noStrike">
                <a:solidFill>
                  <a:srgbClr val="000000"/>
                </a:solidFill>
                <a:latin typeface="Gill Sans MT"/>
              </a:rPr>
              <a:t>vitaminelor în alimentaţia sănătoas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Title 6"/>
          <p:cNvSpPr/>
          <p:nvPr/>
        </p:nvSpPr>
        <p:spPr>
          <a:xfrm>
            <a:off x="1995480" y="134784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man Old Style"/>
              </a:rPr>
              <a:t>Vitaminel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64653"/>
                </a:solidFill>
                <a:latin typeface="Bookman Old Style"/>
              </a:rPr>
              <a:t>Vitamine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Vitaminele reprezintă un grup de substanţe chimice, identificate în cea mai mare parte în secolul trecut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(1900-1999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Denumirea de </a:t>
            </a:r>
            <a:r>
              <a:rPr b="0" i="1" lang="ro-RO" sz="2400" spc="-1" strike="noStrike">
                <a:solidFill>
                  <a:srgbClr val="000000"/>
                </a:solidFill>
                <a:latin typeface="Gill Sans MT"/>
              </a:rPr>
              <a:t>vitamine</a:t>
            </a: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 evocă, vitalitatea şi viaţa. Trebuie să ştim că nici o reacţie chimică a organismului nostru n-ar putea avea loc fără vitami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Iniţial oamenii de ştiinţă au etichetat fiecare vitamină cu o literă, iar mai târziu, după descoperirea structurii lor, au primit toate o denumire ştiinţifică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Organismul uman are nevoie de vitamine în cantităţi foarte mici,  infinitezima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ill Sans MT"/>
              </a:rPr>
              <a:t>Aceste vitamine nu pot fi sintetizate de către organism, aşa că este necesar un aport zilnic prin alimentaţi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64653"/>
                </a:solidFill>
                <a:latin typeface="Bookman Old Style"/>
              </a:rPr>
              <a:t>Categorii de vitamin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219320"/>
            <a:ext cx="85075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Gill Sans MT"/>
              </a:rPr>
              <a:t>Se disting două categorii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Gill Sans MT"/>
              </a:rPr>
              <a:t>Vitaminele solubile în apă (sau hidrosolubile), care nu se stochează în organism. Acestea sunt vitaminele complexului B, PP (B3) şi C care se pierd de cele mai multe ori în apa de fierbe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Gill Sans MT"/>
              </a:rPr>
              <a:t>Vitaminele solubile în grăsimi (liposolubile), care se stochează în organism. Printre acestea se află vitaminele A, D, E şi 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Gill Sans MT"/>
              </a:rPr>
              <a:t>Depozitarea prea îndelungată, oxidarea la aer sau modul de preparare pot atrage după ele o mare pierdere de vitamina C din fructe şi legume. O preparare de scurtă durată la temperatură joasă presupune o pierdere mai mic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ITAMINELE HIDROSOLUB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976320" y="1217520"/>
          <a:ext cx="7191360" cy="4776840"/>
        </p:xfrm>
        <a:graphic>
          <a:graphicData uri="http://schemas.openxmlformats.org/drawingml/2006/table">
            <a:tbl>
              <a:tblPr/>
              <a:tblGrid>
                <a:gridCol w="1798560"/>
                <a:gridCol w="1797120"/>
                <a:gridCol w="1798560"/>
                <a:gridCol w="1797120"/>
              </a:tblGrid>
              <a:tr h="3517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urse aliment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incipalele functii indeplinite in organis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mptomele carentei vitamin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15235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C (acid ascorbi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egume si fructe (In special spanac, tomate, brocoli, cartofi, capsuni, portocale si alte citric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l antioxidant. Participa in multiple reactii biochimice din organism. Esentiala in cresterea cartilajului, oaselor si dintilo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reste rezistenta la infectii si grabeste vindecarea tisula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 moderat: gingivoragi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 sever: scorbu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3561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1 (tiamin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rne de porc, ficat, legume, cereale, n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reactiile metabolismului glucidic (cu rol in producerea ribozei) si a mai multor aminoaciz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tribuie la buna functionare a sistemului nervo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cetinirea cresterii, confuzie mentala, edem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 sever: Beri-Ber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16909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2 (riboflavin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cat, carne, lapte si produse lactate (iaurt, branz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 organism se combina cu acidul fosforic si formeaza doua coenzime care actioneaza ca transportori de oxigen in cateva sisteme oxidative importante din organism. Rol in functionalitatea SNC, a aparatului vizual, tegumentelo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eziuni corneene, cheiloza (inflamatia si craparea comisurilor bucale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renta de riboflavina se asociaza frecvent cu deficitul de tiamina sau niac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13561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PP sau B3, 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iacina (acid nicotinic, nicotinamid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cat, carne, peste, alune. Se poate sintetiza din triptofan (l1 mg de niacina din 600 mg de triptofan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reactiile de sinteza a lipidelor, de utilizare a energiei din carbohidrati si in procesul respiratiei tisula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l trofic pentru tegumente, nerv, tract gastro-intestina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eziuni tegumentare, gastro-intestinale, anorexie, iritabilitate, vertij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 sever: pelag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ITAMINELE HIDROSOLUB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1413000"/>
          <a:ext cx="8229600" cy="3889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214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urse aliment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incipalele functii indeplinite in organi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imptomele carentei vitamin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749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a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id pantotenic</a:t>
                      </a: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cat, rinichi, carne, galbenus de ou, legume (larg raspandita In aproape toate alimente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metabolismul energetic, fiind in principal incorporata in coenzima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ul este rar deoarece acidul pantotenic se gaseste in majoritatea alimentel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566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6 (piridoxina, piridoxal, piridoxin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rne, peste, legume, cereal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numeroase reactii din metabolismul proteinelor si aminoacizil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ritabilitate, dermatita in jurul ochilor, varsaturi, convulsii, litiaza renal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749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8 (vitamina H sau b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otina</a:t>
                      </a: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cat, rinichi, galbenus de ou, lapte, legume proaspe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reactii de sintreza a lipidelor, in metabolismul aminoacizilor si glucidel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oseala, depresie, greata, dermatita, dureri muscula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9295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a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id folic</a:t>
                      </a: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cat, legu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metabolismul aminoacizilor si proteinelor. Important in crestere. Important pentru maturarea eritrocitel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aree, anemi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1114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B12</a:t>
                      </a:r>
                      <a:r>
                        <a:rPr b="1" lang="ro-RO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 (ciano-cobalamin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rne, peste, oua, lapte si produse lact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enzima in reactiile de sinteza ale acizilor nucleici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igura crestere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l trofic pentru sistemul nerv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mportanta pentru maturarea hematiil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 sever: anemie pernicioasa, tulburari neurologice (demielinizarea fibrelor nervoase mari din maduva spinarii, in special din cordoanele posterioare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VITAMINELE LIPOSOLUB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57200" y="1347840"/>
          <a:ext cx="8229600" cy="4100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90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retinol, carotenoiz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tinol: ficat, unt, lapte integral, branza, galbenu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vitamina A: morcovi, legume, dovleac, cartofi, </a:t>
                      </a: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panac,  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is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ol in procesele vizuale. Este necesara pentru cresterea normala a majoritatii celulelor din organism si in special a celor epitelial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ol in procesul de crestere a oaselor si dintilo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ficit moderat: hemeralopie, descuamare tegumentara, acnee, diaree, infectii gastrointestinale, incetinirea cresteri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eficit sever: xeroftalmi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886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D2 - ergocalciferol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3 - colecalcifero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tura de peste, galbenus, o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ntetizata la nivelul tegumentului sub actiunea luminii sola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l in metabolismul fosfocalcic (creste absorbtia intestinala a calciului; rol antirahitic la copil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copii: rahitis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 adulti: osteomalaci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886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a E (tocofero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lei vegetal, margarina, legume (In special spanac, salata), boabe de cereale, galbenus, unt, fica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l antioxidant. Rol structural pentru mentinerea integritatii membranei celulare. Efecte antiinflamatoa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ul apare aproape exclusiv in inanitie. Posibil anemie, la copiii cu greutate mica la naste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027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tamina K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(K1 - fitokinona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K2 – farnokinona</a:t>
                      </a: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K3 - menadion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bricată de bacteriile din col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panac, varza, urzici, brocoli, 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pindă,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garina, uleiuri vegetale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, ouă, car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ervine in procesul de coagulare a sangelui. Sinteza factorilor II, VII, IX, X la nivel hepatic este dependenta de vitamina 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ficitul apare foarte rar deoarece vitamina K este sintetizata continuu de catre bacteriile din tractul intestinal. La nou nascuti, care nu au inca flora bacteriana capabila sa sintetizeze vitamina K apare deficitul datorita lipsei din alimentatie. Deficitul poate apare In urma malabsorbtiei lipidelor din tractul gastrointestina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64653"/>
                </a:solidFill>
                <a:latin typeface="Bookman Old Style"/>
              </a:rPr>
              <a:t>Cum se evită pierderea vitaminelor</a:t>
            </a:r>
            <a:r>
              <a:rPr b="0" lang="en-GB" sz="3200" spc="-1" strike="noStrike">
                <a:solidFill>
                  <a:srgbClr val="464653"/>
                </a:solidFill>
                <a:latin typeface="Bookman Old Style"/>
              </a:rPr>
              <a:t>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Folosi</a:t>
            </a: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ţi produse foarte proaspete în locul alimentelor care au fost depozitat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Preferaţi fructele şi legumele crude (în afara cazurilor de intoleranţă digestivă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Evitaţi prepararea prelungită la temperatură înaltă. Gătiţi produsele la temperatură scăzută şi, mai ales, la abur slab (în special pentru legum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Evitaţi resturile de mâncare care zac în frigider şi vor fi reîncălzi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Reduceţi cantităţile, dar alegeţi calitatea, preferând produsele biologi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Fripturile şi grătarele păstrează mai mult vitamine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Produsele congelate sunt mai bogate în vitamine decât conserve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ill Sans MT"/>
              </a:rPr>
              <a:t>Nu expuneţi laptele la lumin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464653"/>
                </a:solidFill>
                <a:latin typeface="Bookman Old Style"/>
              </a:rPr>
              <a:t>Alegeţi o alimentaţie sănătoasă !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6" name="Content Placeholder 6" descr=""/>
          <p:cNvPicPr/>
          <p:nvPr/>
        </p:nvPicPr>
        <p:blipFill>
          <a:blip r:embed="rId1"/>
          <a:stretch/>
        </p:blipFill>
        <p:spPr>
          <a:xfrm>
            <a:off x="1157400" y="1430280"/>
            <a:ext cx="6829200" cy="451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8:26:50Z</dcterms:created>
  <dc:creator>Gelu</dc:creator>
  <dc:description/>
  <dc:language>en-US</dc:language>
  <cp:lastModifiedBy>Gelu</cp:lastModifiedBy>
  <dcterms:modified xsi:type="dcterms:W3CDTF">2012-01-29T10:51:18Z</dcterms:modified>
  <cp:revision>22</cp:revision>
  <dc:subject/>
  <dc:title>Vitaminele</dc:title>
</cp:coreProperties>
</file>